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6CBF-D274-414D-8C44-B3FEA840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E307-F5BE-44A2-95DA-2214D3F0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FBF-7C87-4DF2-AE74-F134B867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6222-0AA9-4512-AB08-7852869C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84FA-5518-43ED-8705-EA1E9B71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6081-2F11-48F1-9DD1-5B403D77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A8F1-DA14-4A92-9E37-A886D21B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E704-F2A1-43A7-831D-7BD4A21B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E4E0-491B-4F3B-9A1D-63CAE501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85F0-F3B6-4A8C-8FC7-452A1BEB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031A-5BB6-4C5F-815A-A456516B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B0E9-91A0-429C-9912-DF8662C8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9ED9-609C-45C7-B3EE-9555E49D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B348-A3DE-4AB5-8C7A-79CF993B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08B7-8378-4F67-A04B-D9D96244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D777-5B45-42A3-A6F8-F1C44468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218C-C164-415E-92E0-62F3A2A6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F462-0D3A-481D-A1C1-1D15538D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502C-920A-4864-8DDB-7885E153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B723-D891-4193-A3C3-63C8AB9C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09A8-6DD6-4902-BF57-A7BA9F2F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7C7C-1258-4396-A488-F5CCF0DE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C1E1-EF22-4251-9050-219EC94A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1F89-EEE3-4CF6-AB1C-79E03265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BB53-87A6-4568-85BB-07669788EA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A787-6FED-4F03-AE03-65E5F86B86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eometry 1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uesday, August 10, 201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udent will have an understanding of the classroom policies and proced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l work:  What is your goal for this class?  How will you achieve th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Noteb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gnment:  Syllabus Quiz Thurs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Geometry 1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ursday, August 12, 201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ind, communicate and evaluate patte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l 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Sketch a visual pattern and describe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MS-Radic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llabus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sell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:  Create a tessellation, AIMS Radical Sh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7:11:18Z</dcterms:created>
  <dc:creator>tstephens</dc:creator>
  <dc:description/>
  <dc:language>en-US</dc:language>
  <cp:lastModifiedBy>tstephens</cp:lastModifiedBy>
  <dcterms:modified xsi:type="dcterms:W3CDTF">2010-08-16T21:18:57Z</dcterms:modified>
  <cp:revision>5</cp:revision>
  <dc:subject/>
  <dc:title>Geometry 1 Thursday, August 13, 2009</dc:title>
</cp:coreProperties>
</file>